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0B9F-CA3A-4845-A08E-8E05982A2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3110-E7B9-4326-A419-445A7DA97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CB90-5A00-4758-8D7C-0A9833CDF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F256-B51A-47AD-95E9-65FFEB4A8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A03B-BFC8-4321-903D-AE2FEE23A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9900-9D1E-4955-9146-560D40C9F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58AA-F637-4EC4-9935-74EDD9F49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65A9-73A7-4BC0-801B-92D530585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0909-161B-4320-B32C-BC870221C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04C9-8B84-4229-9A6D-E243E3F78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F053-1E61-4F61-9AD8-86EAAD255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326D-B01D-4259-A8A7-E90C16725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98997-EBAD-4041-A683-1BF5F94881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Martin Otter</cp:lastModifiedBy>
  <dcterms:modified xsi:type="dcterms:W3CDTF">2007-11-29T08:35:17Z</dcterms:modified>
  <cp:revision>1</cp:revision>
  <dc:subject/>
  <dc:title>Folie 1</dc:title>
</cp:coreProperties>
</file>